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CA43-AA4D-466E-ADFC-9CADB093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3D4-6193-4E73-A01B-A3AC77F4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FE2-A586-4BCF-AE28-B842C4F7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ECA-4798-42B0-9A94-93517D98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B78-4414-4495-B27F-22AA906A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26D-01FB-4DE7-9C35-79CC0C82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B724-D22C-43F6-9305-67E63DC1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8E1-7701-48BB-9510-190746C7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3F2-AF63-4F1A-BCF6-76BA9182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9C0B-595F-47AD-9151-D89DBDFA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E35-59CA-42F2-8058-2AE8D1E4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091-1F79-4BB9-A928-B2E69E46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A10E-54E8-417D-A1F2-FD71264C1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 that always has exactly the same fixed, uniform composition (or what it is made of)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609480" y="1460520"/>
          <a:ext cx="8328240" cy="21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60520"/>
                    <a:ext cx="832824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terogeneous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ure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mogenous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rShape1"/>
          <p:cNvSpPr/>
          <p:nvPr/>
        </p:nvSpPr>
        <p:spPr>
          <a:xfrm rot="10800000">
            <a:off x="1224000" y="2155680"/>
            <a:ext cx="216000" cy="2160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iquid to ga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till liquid, just in differen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6002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rumbling piece of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licing tom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observed or measured without changing the composition (made of) of the substances is a physic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609480" y="2133720"/>
          <a:ext cx="8632800" cy="15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8632800" cy="15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2285640"/>
            <a:ext cx="8229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CorShape1"/>
          <p:cNvSpPr/>
          <p:nvPr/>
        </p:nvSpPr>
        <p:spPr>
          <a:xfrm rot="10800000">
            <a:off x="1137960" y="24285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of a material to allow heat/electricity to flow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114800" y="12952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2952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CorShape1"/>
          <p:cNvSpPr/>
          <p:nvPr/>
        </p:nvSpPr>
        <p:spPr>
          <a:xfrm rot="10800000">
            <a:off x="223560" y="291132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co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le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tio of the mass of a substance to its volum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TPChart"/>
          <p:cNvGraphicFramePr/>
          <p:nvPr/>
        </p:nvGraphicFramePr>
        <p:xfrm>
          <a:off x="533520" y="1460520"/>
          <a:ext cx="873432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60520"/>
                    <a:ext cx="873432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7160" y="159984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le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orShape1"/>
          <p:cNvSpPr/>
          <p:nvPr/>
        </p:nvSpPr>
        <p:spPr>
          <a:xfrm rot="10800000">
            <a:off x="1163520" y="1742760"/>
            <a:ext cx="29232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are reasons we use physical proper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TPChart"/>
          <p:cNvGraphicFramePr/>
          <p:nvPr/>
        </p:nvGraphicFramePr>
        <p:xfrm>
          <a:off x="609480" y="1473120"/>
          <a:ext cx="8658360" cy="25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73120"/>
                    <a:ext cx="8658360" cy="25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dentify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substances in a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CorShape1"/>
          <p:cNvSpPr/>
          <p:nvPr/>
        </p:nvSpPr>
        <p:spPr>
          <a:xfrm rot="10800000">
            <a:off x="1224000" y="3031920"/>
            <a:ext cx="216000" cy="2156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separation of a substance in solution based on boil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380988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CorShape1"/>
          <p:cNvSpPr/>
          <p:nvPr/>
        </p:nvSpPr>
        <p:spPr>
          <a:xfrm rot="10800000">
            <a:off x="609480" y="2361960"/>
            <a:ext cx="29232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hysical change is when some of the properties of a material change into new and totally different substances, but they look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TPChart"/>
          <p:cNvGraphicFramePr/>
          <p:nvPr/>
        </p:nvGraphicFramePr>
        <p:xfrm>
          <a:off x="685800" y="2362320"/>
          <a:ext cx="8836200" cy="15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8836200" cy="15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920" y="2514600"/>
            <a:ext cx="8229600" cy="11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CorShape1"/>
          <p:cNvSpPr/>
          <p:nvPr/>
        </p:nvSpPr>
        <p:spPr>
          <a:xfrm rot="10800000">
            <a:off x="1214280" y="3242880"/>
            <a:ext cx="29232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are two categories of pure substa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TPChart"/>
          <p:cNvGraphicFramePr/>
          <p:nvPr/>
        </p:nvGraphicFramePr>
        <p:xfrm>
          <a:off x="533520" y="1473120"/>
          <a:ext cx="873432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73120"/>
                    <a:ext cx="873432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97160" y="159984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n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and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CorShape1"/>
          <p:cNvSpPr/>
          <p:nvPr/>
        </p:nvSpPr>
        <p:spPr>
          <a:xfrm rot="10800000">
            <a:off x="1193760" y="3268440"/>
            <a:ext cx="25416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a correct example of a heterogeneous mix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TPChart"/>
          <p:cNvGraphicFramePr/>
          <p:nvPr/>
        </p:nvGraphicFramePr>
        <p:xfrm>
          <a:off x="762120" y="1460520"/>
          <a:ext cx="850572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60520"/>
                    <a:ext cx="85057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CorShape1"/>
          <p:cNvSpPr/>
          <p:nvPr/>
        </p:nvSpPr>
        <p:spPr>
          <a:xfrm rot="10800000">
            <a:off x="1193760" y="2242800"/>
            <a:ext cx="25416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20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hield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in a swimming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mogenous mixture formed when substances dissolve is a(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TPChart"/>
          <p:cNvGraphicFramePr/>
          <p:nvPr/>
        </p:nvGraphicFramePr>
        <p:xfrm>
          <a:off x="4038480" y="137160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37160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rShape1"/>
          <p:cNvSpPr/>
          <p:nvPr/>
        </p:nvSpPr>
        <p:spPr>
          <a:xfrm rot="10800000">
            <a:off x="512640" y="3031920"/>
            <a:ext cx="216000" cy="2156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negar and oil is an example of a(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609480" y="1447920"/>
          <a:ext cx="914112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91411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20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e sub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orShape1"/>
          <p:cNvSpPr/>
          <p:nvPr/>
        </p:nvSpPr>
        <p:spPr>
          <a:xfrm rot="10800000">
            <a:off x="1193760" y="1730160"/>
            <a:ext cx="25416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oid contains some particles that are medium in size between the smaller particles in a solution and the larger particles in a susp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TPChart"/>
          <p:cNvGraphicFramePr/>
          <p:nvPr/>
        </p:nvGraphicFramePr>
        <p:xfrm>
          <a:off x="533520" y="2514600"/>
          <a:ext cx="8610480" cy="15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61048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8229600" cy="11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CorShape1"/>
          <p:cNvSpPr/>
          <p:nvPr/>
        </p:nvSpPr>
        <p:spPr>
          <a:xfrm rot="10800000">
            <a:off x="1137960" y="28857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1430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roperty = characteristics of a material that ca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e observed or measured without changing the composition of the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362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743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osity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ow a liquid flows/resists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3124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il in 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36576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vity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bility of a material to allow hea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o flow (electricity as w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4956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leability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bility of a solid to be hammered w/o breaking/shattering (most metals are malle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ness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ill 1 material scratch ano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1447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steel knife scratch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ood, but a sharpener manipulates the kn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2209680"/>
            <a:ext cx="7010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ing point/boiling point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emp at which substances change from a solid to a liquid (M.P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P.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emp at which substance bo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3581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y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ratio of the mass of a substance to it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343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of Physical Prop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800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 use physical properties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o I.d. materials, choose materials or separate substances in a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properties to separate mix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12193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iltration –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eparation of materials based on the size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ir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2057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rewing coffee—using co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27432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istillation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eparation of the substances in solution based on boiling 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35812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ocess used to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rovide fresh water in submar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3962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ing physical cha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43434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hysical change occurs whe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ome of the properties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 material change, but substances in a material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tay the same (atoms remain wh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8:55:14Z</dcterms:created>
  <dc:creator>Farwell Area Schools</dc:creator>
  <dc:description/>
  <dc:language>en-US</dc:language>
  <cp:lastModifiedBy>Customer</cp:lastModifiedBy>
  <dcterms:modified xsi:type="dcterms:W3CDTF">2009-10-06T01:50:02Z</dcterms:modified>
  <cp:revision>12</cp:revision>
  <dc:subject/>
  <dc:title>3.2 Physical properties</dc:title>
</cp:coreProperties>
</file>